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6A4-D3E2-4E96-BB47-777F2953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F9F9-BEBC-4C7A-A585-9012F06F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1900-1460-4DF1-8FC2-23DFD565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2913-03F6-4A16-AD28-8740B0FF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A7B5-8D94-4931-8776-36D741DF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E98B-D29F-4246-A89A-97191B4E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A8AE-2A6D-493A-B1A2-EE57AC7B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01A2-B244-4F22-A14D-E84755A1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2E1D-433A-4C47-B5A2-36863939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385B-777D-44B6-9EE2-525FAB70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4E0C-2859-4101-858E-F5F24C4C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A526-49BF-4393-9289-C9AB2FF2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FDD9-CA8E-4EC7-B1EA-748A3F2C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D576-D78E-40A6-A6CA-6CCEDB58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BB97-6204-4FC7-8333-58D68A88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6BFB-5192-4D05-B994-A187D6814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71F0-2611-49D1-9B65-8B27FDA4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3A66-22D9-49B0-BD00-1D2B3ED3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C049-A196-4C4F-929D-F476D792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1311-A46B-4EB4-B9FD-8C7263DD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205A-642E-43C9-BA46-5BCBD57B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10A2-5BAB-409C-94A9-69509BEB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C5BF-0401-4F91-A331-E9B45AB4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A61A-5A44-466F-A4EA-73560E2A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B97E-F9B1-4B4F-B87B-4589DFF83ED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EBD1-70A2-4D1B-9073-C9A62749902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Progressive Er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00-19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 Time of Chang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ealth Improvem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 of Prevention/sani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laria, hookw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eanness, pure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cal improvements (small pox shots), medical license requir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13, </a:t>
            </a:r>
            <a:r>
              <a:rPr b="0" i="1" lang="en-US" sz="2800" spc="-1" strike="noStrike">
                <a:solidFill>
                  <a:srgbClr val="66ccff"/>
                </a:solidFill>
                <a:latin typeface="Tahoma"/>
              </a:rPr>
              <a:t>State Board of Heal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14, </a:t>
            </a:r>
            <a:r>
              <a:rPr b="0" i="1" lang="en-US" sz="2800" spc="-1" strike="noStrike">
                <a:solidFill>
                  <a:srgbClr val="66ccff"/>
                </a:solidFill>
                <a:latin typeface="Tahoma"/>
              </a:rPr>
              <a:t>Bureau of Vital Statistic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pe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men often created medical organiz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En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Beginning of the Centu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ntier life f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ulations/cities/businesses begin grow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tter industries and 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rmers and common people have hard time adju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Progressive Movem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created to adjust society to modern needs and begin refo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Progressive Spiri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ilosophy/Belief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posed waste/corruption—conserv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posed big busin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tter education and health ca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cial justice and public safe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men’s suffr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xed econom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ker’s righ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hib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248520" y="2819520"/>
            <a:ext cx="2566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Rise of </a:t>
            </a:r>
            <a:r>
              <a:rPr b="1" i="1" lang="en-US" sz="4400" spc="-1" strike="noStrike">
                <a:solidFill>
                  <a:srgbClr val="66ccff"/>
                </a:solidFill>
                <a:latin typeface="Tahoma"/>
              </a:rPr>
              <a:t>Jeff Dav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5105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ty lawyer, Attorney General, Governor, Senato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whatever to get in public off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rmer/poor man sympath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ccff"/>
                </a:solidFill>
                <a:latin typeface="Tahoma"/>
              </a:rPr>
              <a:t>Anti-trust la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stated no Trust could do business in Arkans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e to the new Primary System, Davis became Governor in 19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0" r="33829" b="0"/>
          <a:stretch/>
        </p:blipFill>
        <p:spPr>
          <a:xfrm>
            <a:off x="5938920" y="1828800"/>
            <a:ext cx="3205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ccff"/>
                </a:solidFill>
                <a:latin typeface="Tahoma"/>
              </a:rPr>
              <a:t>Jeff Davis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Cont.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served three terms as Governor (1901-190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able to work with General Assemb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cist—worked for poor white men, did nothing for African Americans or wo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ibution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prove State Prison system (African American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liked “</a:t>
            </a:r>
            <a:r>
              <a:rPr b="0" lang="en-US" sz="2000" spc="-1" strike="noStrike">
                <a:solidFill>
                  <a:srgbClr val="66ccff"/>
                </a:solidFill>
                <a:latin typeface="Tahoma"/>
              </a:rPr>
              <a:t>convict-lease syste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form schools for child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came a U.S. Senator in 19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t successfu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ssed away in 191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gressive Governo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2799000" cy="3733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048120" y="1828800"/>
            <a:ext cx="2936880" cy="3733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172200" y="1828800"/>
            <a:ext cx="2743200" cy="3733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5638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eorge W. Donagh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56386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oseph T. Robin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5638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rles Br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duc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kansas was one                                         of lowest rank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 than 50% of                                  school age children                              actually went to                                        scho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ool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ly-September                                              (harvest in Fall/Wint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k was most import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s pay-$34.46/mon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room school ho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gregated schoo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411480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ducational Refor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ldren required to attend school if between 7-15 years of 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ndard textbooks for all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mber of schools doubled between 1909-191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Technical schools were create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ssellville, Jonesboro, Magnolia, Monticell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</a:t>
            </a: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Normal Schoo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pened in Conway for tea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people unable to read/write dropped from 20% to 9.4% in 20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9917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ransportation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provem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85840" y="175212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evelopment of c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903, only 50 cars in Arkans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y 1913, 4,800 cars in Arkans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d to better roads (grave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1913, the </a:t>
            </a:r>
            <a:r>
              <a:rPr b="0" i="1" lang="en-US" sz="2800" spc="-1" strike="noStrike">
                <a:solidFill>
                  <a:srgbClr val="66ccff"/>
                </a:solidFill>
                <a:latin typeface="Tahoma"/>
              </a:rPr>
              <a:t>State Department of Lands, Highways, and Improvemen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as begu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ccff"/>
                </a:solidFill>
                <a:latin typeface="Tahoma"/>
              </a:rPr>
              <a:t>Federal Road Act of 191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.S. required to pay ½ of road constr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y 1921, 7,000 miles of roads were add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28600" y="4343400"/>
            <a:ext cx="3429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18:46Z</dcterms:created>
  <dc:creator>BSD</dc:creator>
  <dc:description/>
  <dc:language>en-US</dc:language>
  <cp:lastModifiedBy>BSD</cp:lastModifiedBy>
  <dcterms:modified xsi:type="dcterms:W3CDTF">2008-04-02T13:01:32Z</dcterms:modified>
  <cp:revision>6</cp:revision>
  <dc:subject/>
  <dc:title> The Progressive Era</dc:title>
</cp:coreProperties>
</file>